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33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48.jpeg" ContentType="image/jpeg"/>
  <Override PartName="/ppt/media/image53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5B7-C1D2-4A15-8FCB-BEF78445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771-0E5F-4EEA-9781-D223E6EA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512-BBA5-4D20-8162-1EB7264F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9E2-EAA2-42A1-8E59-F214A7DE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957-30F9-436B-BEAE-0CBD37EA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C19-38F7-4B12-8FC0-0E67B9D5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DB43-C6EA-425F-8BA3-A4BEA202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4FA-3B20-47C1-8CA5-6F52F937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8BE-77FC-45DC-95B5-3447D3BD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B2C-16B0-4976-9FDE-9D308EDB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1D8-7E23-415D-9D6F-50001177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179-48ED-4B20-924D-ACCC0D15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4D06-7CAB-42D5-B58A-B4DBE3873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armony 5.jpg"/>
          <p:cNvPicPr/>
          <p:nvPr/>
        </p:nvPicPr>
        <p:blipFill>
          <a:blip r:embed="rId1"/>
          <a:stretch/>
        </p:blipFill>
        <p:spPr>
          <a:xfrm>
            <a:off x="1670040" y="225360"/>
            <a:ext cx="488952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76920" y="304560"/>
            <a:ext cx="403848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Phot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533880" y="563832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ard MT Condensed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balance 2.jpg"/>
          <p:cNvPicPr/>
          <p:nvPr/>
        </p:nvPicPr>
        <p:blipFill>
          <a:blip r:embed="rId2"/>
          <a:srcRect l="12382" t="4820" r="14893" b="10476"/>
          <a:stretch/>
        </p:blipFill>
        <p:spPr>
          <a:xfrm>
            <a:off x="2362320" y="0"/>
            <a:ext cx="44193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362320" cy="13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lance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781680" y="2971800"/>
            <a:ext cx="2362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qual relationship between two or mor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7"/>
          <p:cNvSpPr/>
          <p:nvPr/>
        </p:nvSpPr>
        <p:spPr>
          <a:xfrm>
            <a:off x="4645800" y="0"/>
            <a:ext cx="1800" cy="6858000"/>
          </a:xfrm>
          <a:prstGeom prst="line">
            <a:avLst/>
          </a:prstGeom>
          <a:ln w="381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variety 4.jpg"/>
          <p:cNvPicPr/>
          <p:nvPr/>
        </p:nvPicPr>
        <p:blipFill>
          <a:blip r:embed="rId1"/>
          <a:stretch/>
        </p:blipFill>
        <p:spPr>
          <a:xfrm>
            <a:off x="304920" y="762120"/>
            <a:ext cx="4647960" cy="58291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hotographs do not need to be symmetrical to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 balanced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2880" y="4419360"/>
            <a:ext cx="4191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ever, the visual weight needs to be about the same on both sid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7"/>
          <p:cNvSpPr/>
          <p:nvPr/>
        </p:nvSpPr>
        <p:spPr>
          <a:xfrm>
            <a:off x="2590920" y="762120"/>
            <a:ext cx="38160" cy="58291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this photograph balanc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contrast 2.jpg"/>
          <p:cNvPicPr/>
          <p:nvPr/>
        </p:nvPicPr>
        <p:blipFill>
          <a:blip r:embed="rId1"/>
          <a:stretch/>
        </p:blipFill>
        <p:spPr>
          <a:xfrm>
            <a:off x="1143000" y="1371600"/>
            <a:ext cx="6807240" cy="510552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6"/>
          <p:cNvSpPr/>
          <p:nvPr/>
        </p:nvSpPr>
        <p:spPr>
          <a:xfrm>
            <a:off x="4544280" y="1373040"/>
            <a:ext cx="3240" cy="51055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808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ositive shape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257440" y="533376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rea that is occupied by the object/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repetition 4.jpg"/>
          <p:cNvPicPr/>
          <p:nvPr/>
        </p:nvPicPr>
        <p:blipFill>
          <a:blip r:embed="rId2"/>
          <a:stretch/>
        </p:blipFill>
        <p:spPr>
          <a:xfrm>
            <a:off x="2646360" y="755640"/>
            <a:ext cx="6296040" cy="3792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giraffe positive.jpg"/>
          <p:cNvPicPr/>
          <p:nvPr/>
        </p:nvPicPr>
        <p:blipFill>
          <a:blip r:embed="rId3"/>
          <a:stretch/>
        </p:blipFill>
        <p:spPr>
          <a:xfrm>
            <a:off x="665280" y="3243240"/>
            <a:ext cx="6858000" cy="4059360"/>
          </a:xfrm>
          <a:prstGeom prst="rect">
            <a:avLst/>
          </a:prstGeom>
          <a:ln w="0">
            <a:noFill/>
          </a:ln>
        </p:spPr>
      </p:pic>
      <p:cxnSp>
        <p:nvCxnSpPr>
          <p:cNvPr id="80" name="Straight Arrow Connector 9"/>
          <p:cNvCxnSpPr/>
          <p:nvPr/>
        </p:nvCxnSpPr>
        <p:spPr>
          <a:xfrm>
            <a:off x="914400" y="1447560"/>
            <a:ext cx="381600" cy="14482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comb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403848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egative Spac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66320" y="5943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area that surrounds the subjec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repetition 4.jpg"/>
          <p:cNvPicPr/>
          <p:nvPr/>
        </p:nvPicPr>
        <p:blipFill>
          <a:blip r:embed="rId2"/>
          <a:srcRect l="2003" t="3615" r="2003" b="15229"/>
          <a:stretch/>
        </p:blipFill>
        <p:spPr>
          <a:xfrm>
            <a:off x="1981080" y="1289160"/>
            <a:ext cx="6815160" cy="1987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giraffe negative.jpg"/>
          <p:cNvPicPr/>
          <p:nvPr/>
        </p:nvPicPr>
        <p:blipFill>
          <a:blip r:embed="rId3"/>
          <a:srcRect l="2003" t="5807" r="2003" b="13038"/>
          <a:stretch/>
        </p:blipFill>
        <p:spPr>
          <a:xfrm>
            <a:off x="533520" y="3733920"/>
            <a:ext cx="6651360" cy="193968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8"/>
          <p:cNvCxnSpPr/>
          <p:nvPr/>
        </p:nvCxnSpPr>
        <p:spPr>
          <a:xfrm>
            <a:off x="684720" y="914040"/>
            <a:ext cx="153000" cy="25153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positive shap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971440" y="7617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negative shap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emphasis 4.jpg"/>
          <p:cNvPicPr/>
          <p:nvPr/>
        </p:nvPicPr>
        <p:blipFill>
          <a:blip r:embed="rId1"/>
          <a:srcRect l="6566" t="8242" r="6566" b="14663"/>
          <a:stretch/>
        </p:blipFill>
        <p:spPr>
          <a:xfrm>
            <a:off x="762120" y="1981080"/>
            <a:ext cx="760068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asics rules about balancing positive and negative shap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should be about the same amount of space taken up by positive shape as there is negative spac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should never be more negative shape than positive sha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minating extra negative space will make the negative shape strong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ing the frame or zooming in on your subject will help eliminate too much negative sha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wrong with this pic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5334120"/>
            <a:ext cx="3581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o much negative shap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repetition 1.jpg"/>
          <p:cNvPicPr/>
          <p:nvPr/>
        </p:nvPicPr>
        <p:blipFill>
          <a:blip r:embed="rId2"/>
          <a:srcRect l="8952" t="7862" r="8855" b="11145"/>
          <a:stretch/>
        </p:blipFill>
        <p:spPr>
          <a:xfrm>
            <a:off x="3733920" y="1447920"/>
            <a:ext cx="5257800" cy="5181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 of Third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4792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 gridding system that divides the frame into 9 different zon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balance 1.jpg"/>
          <p:cNvPicPr/>
          <p:nvPr/>
        </p:nvPicPr>
        <p:blipFill>
          <a:blip r:embed="rId1"/>
          <a:stretch/>
        </p:blipFill>
        <p:spPr>
          <a:xfrm>
            <a:off x="1447920" y="871560"/>
            <a:ext cx="6476760" cy="461484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5"/>
          <p:cNvSpPr/>
          <p:nvPr/>
        </p:nvSpPr>
        <p:spPr>
          <a:xfrm flipH="1">
            <a:off x="3503160" y="839880"/>
            <a:ext cx="1800" cy="464796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7"/>
          <p:cNvSpPr/>
          <p:nvPr/>
        </p:nvSpPr>
        <p:spPr>
          <a:xfrm flipH="1">
            <a:off x="5789160" y="838080"/>
            <a:ext cx="1800" cy="464832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9"/>
          <p:cNvSpPr/>
          <p:nvPr/>
        </p:nvSpPr>
        <p:spPr>
          <a:xfrm>
            <a:off x="1447920" y="2360520"/>
            <a:ext cx="6476760" cy="18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2"/>
          <p:cNvSpPr/>
          <p:nvPr/>
        </p:nvSpPr>
        <p:spPr>
          <a:xfrm>
            <a:off x="1447920" y="4038480"/>
            <a:ext cx="6476760" cy="18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unity 6.jpg"/>
          <p:cNvPicPr/>
          <p:nvPr/>
        </p:nvPicPr>
        <p:blipFill>
          <a:blip r:embed="rId1"/>
          <a:srcRect l="6000" t="7332" r="6000" b="10003"/>
          <a:stretch/>
        </p:blipFill>
        <p:spPr>
          <a:xfrm>
            <a:off x="0" y="0"/>
            <a:ext cx="8001000" cy="5637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17220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Rule of Thirds suppose to d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-360" y="55623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lp you with placing your objects correctly within the fram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5"/>
          <p:cNvSpPr/>
          <p:nvPr/>
        </p:nvSpPr>
        <p:spPr>
          <a:xfrm>
            <a:off x="0" y="1981080"/>
            <a:ext cx="8001000" cy="18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0" y="3886200"/>
            <a:ext cx="8001000" cy="14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 flipH="1">
            <a:off x="2514600" y="0"/>
            <a:ext cx="76320" cy="563868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0"/>
          <p:cNvSpPr/>
          <p:nvPr/>
        </p:nvSpPr>
        <p:spPr>
          <a:xfrm flipH="1">
            <a:off x="5562720" y="1440"/>
            <a:ext cx="1440" cy="56390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unity 7.jpg"/>
          <p:cNvPicPr/>
          <p:nvPr/>
        </p:nvPicPr>
        <p:blipFill>
          <a:blip r:embed="rId1"/>
          <a:stretch/>
        </p:blipFill>
        <p:spPr>
          <a:xfrm>
            <a:off x="304920" y="257040"/>
            <a:ext cx="5105160" cy="6381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C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posi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486400" y="2971800"/>
            <a:ext cx="3581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rrangement of visual elements within the frame of a photograp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e of Third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218960"/>
            <a:ext cx="76960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hing should be in every z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place object directly in the center z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 objects within 1/3 of the fr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variety.jpg"/>
          <p:cNvPicPr/>
          <p:nvPr/>
        </p:nvPicPr>
        <p:blipFill>
          <a:blip r:embed="rId2"/>
          <a:stretch/>
        </p:blipFill>
        <p:spPr>
          <a:xfrm>
            <a:off x="1447920" y="3581280"/>
            <a:ext cx="6172200" cy="3070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izon lines should be placed on grid lin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rule of thirds 2.jpg"/>
          <p:cNvPicPr/>
          <p:nvPr/>
        </p:nvPicPr>
        <p:blipFill>
          <a:blip r:embed="rId1"/>
          <a:stretch/>
        </p:blipFill>
        <p:spPr>
          <a:xfrm>
            <a:off x="838080" y="1828800"/>
            <a:ext cx="7534440" cy="5029200"/>
          </a:xfrm>
          <a:prstGeom prst="rect">
            <a:avLst/>
          </a:prstGeom>
          <a:ln w="0">
            <a:noFill/>
          </a:ln>
        </p:spPr>
      </p:pic>
      <p:sp>
        <p:nvSpPr>
          <p:cNvPr id="113" name="Straight Connector 4"/>
          <p:cNvSpPr/>
          <p:nvPr/>
        </p:nvSpPr>
        <p:spPr>
          <a:xfrm>
            <a:off x="838080" y="3352680"/>
            <a:ext cx="7543800" cy="180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61084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You place the horizon line depending on what the focus of the photo i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rule of thirds.jpg"/>
          <p:cNvPicPr/>
          <p:nvPr/>
        </p:nvPicPr>
        <p:blipFill>
          <a:blip r:embed="rId2"/>
          <a:stretch/>
        </p:blipFill>
        <p:spPr>
          <a:xfrm>
            <a:off x="762120" y="1827360"/>
            <a:ext cx="7537320" cy="5030640"/>
          </a:xfrm>
          <a:prstGeom prst="rect">
            <a:avLst/>
          </a:prstGeom>
          <a:ln w="0">
            <a:noFill/>
          </a:ln>
        </p:spPr>
      </p:pic>
      <p:sp>
        <p:nvSpPr>
          <p:cNvPr id="116" name="Straight Connector 4"/>
          <p:cNvSpPr/>
          <p:nvPr/>
        </p:nvSpPr>
        <p:spPr>
          <a:xfrm>
            <a:off x="762120" y="5181480"/>
            <a:ext cx="7543800" cy="180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ule of thirds 4.jpg"/>
          <p:cNvPicPr/>
          <p:nvPr/>
        </p:nvPicPr>
        <p:blipFill>
          <a:blip r:embed="rId1"/>
          <a:stretch/>
        </p:blipFill>
        <p:spPr>
          <a:xfrm>
            <a:off x="1981080" y="0"/>
            <a:ext cx="53802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Straight Connector 4"/>
          <p:cNvSpPr/>
          <p:nvPr/>
        </p:nvSpPr>
        <p:spPr>
          <a:xfrm flipH="1">
            <a:off x="3733920" y="-1440"/>
            <a:ext cx="1440" cy="68594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6"/>
          <p:cNvSpPr/>
          <p:nvPr/>
        </p:nvSpPr>
        <p:spPr>
          <a:xfrm flipH="1">
            <a:off x="5560560" y="-1440"/>
            <a:ext cx="1800" cy="68594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72200" y="-360"/>
            <a:ext cx="27432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ynamic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943240" y="4266720"/>
            <a:ext cx="30481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vement of the eye as it explores a photograp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dynamics.jpg"/>
          <p:cNvPicPr/>
          <p:nvPr/>
        </p:nvPicPr>
        <p:blipFill>
          <a:blip r:embed="rId2"/>
          <a:stretch/>
        </p:blipFill>
        <p:spPr>
          <a:xfrm>
            <a:off x="228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Curved Right Arrow 4"/>
          <p:cNvSpPr/>
          <p:nvPr/>
        </p:nvSpPr>
        <p:spPr>
          <a:xfrm rot="8400600">
            <a:off x="3787200" y="144000"/>
            <a:ext cx="788760" cy="2892600"/>
          </a:xfrm>
          <a:custGeom>
            <a:avLst/>
            <a:gdLst>
              <a:gd name="textAreaLeft" fmla="*/ 105480 w 788760"/>
              <a:gd name="textAreaRight" fmla="*/ 683280 w 788760"/>
              <a:gd name="textAreaTop" fmla="*/ 649080 h 2892600"/>
              <a:gd name="textAreaBottom" fmla="*/ 2144880 h 289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96" stAng="-5400000" swAng="-5400000"/>
                <a:lnTo>
                  <a:pt x="0" y="11168"/>
                </a:lnTo>
                <a:arcTo wR="21600" hR="9696" stAng="10800000" swAng="-3605484"/>
                <a:lnTo>
                  <a:pt x="16200" y="21292"/>
                </a:lnTo>
                <a:lnTo>
                  <a:pt x="21600" y="20127"/>
                </a:lnTo>
                <a:lnTo>
                  <a:pt x="16200" y="18346"/>
                </a:lnTo>
                <a:lnTo>
                  <a:pt x="16200" y="19083"/>
                </a:lnTo>
                <a:arcTo wR="21600" hR="9696" stAng="7194516" swAng="3488053"/>
                <a:lnTo>
                  <a:pt x="62" y="10432"/>
                </a:lnTo>
                <a:arcTo wR="21600" hR="9696" stAng="-10682569" swAng="5282569"/>
                <a:close/>
              </a:path>
              <a:path fill="darkenLess" w="21600" h="21600">
                <a:moveTo>
                  <a:pt x="21600" y="0"/>
                </a:moveTo>
                <a:arcTo wR="21600" hR="9696" stAng="-5400000" swAng="-5400000"/>
                <a:lnTo>
                  <a:pt x="0" y="9696"/>
                </a:lnTo>
                <a:arcTo wR="21600" hR="9696" stAng="10800000" swAng="-117431"/>
                <a:lnTo>
                  <a:pt x="62" y="10432"/>
                </a:lnTo>
                <a:arcTo wR="21600" hR="9696" stAng="-10682569" swAng="528256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urved Right Arrow 5"/>
          <p:cNvSpPr/>
          <p:nvPr/>
        </p:nvSpPr>
        <p:spPr>
          <a:xfrm rot="19938000">
            <a:off x="1240920" y="1628640"/>
            <a:ext cx="841680" cy="2924280"/>
          </a:xfrm>
          <a:custGeom>
            <a:avLst/>
            <a:gdLst>
              <a:gd name="textAreaLeft" fmla="*/ 112680 w 841680"/>
              <a:gd name="textAreaRight" fmla="*/ 729000 w 841680"/>
              <a:gd name="textAreaTop" fmla="*/ 651960 h 2924280"/>
              <a:gd name="textAreaBottom" fmla="*/ 2166840 h 29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35" stAng="-5400000" swAng="-5400000"/>
                <a:lnTo>
                  <a:pt x="0" y="11188"/>
                </a:lnTo>
                <a:arcTo wR="21600" hR="9635" stAng="10800000" swAng="-3596169"/>
                <a:lnTo>
                  <a:pt x="16200" y="21294"/>
                </a:lnTo>
                <a:lnTo>
                  <a:pt x="21600" y="20047"/>
                </a:lnTo>
                <a:lnTo>
                  <a:pt x="16200" y="18187"/>
                </a:lnTo>
                <a:lnTo>
                  <a:pt x="16200" y="18964"/>
                </a:lnTo>
                <a:arcTo wR="21600" hR="9635" stAng="7203831" swAng="3472235"/>
                <a:lnTo>
                  <a:pt x="70" y="10412"/>
                </a:lnTo>
                <a:arcTo wR="21600" hR="9635" stAng="-10676067" swAng="5276067"/>
                <a:close/>
              </a:path>
              <a:path fill="darkenLess" w="21600" h="21600">
                <a:moveTo>
                  <a:pt x="21600" y="0"/>
                </a:moveTo>
                <a:arcTo wR="21600" hR="9635" stAng="-5400000" swAng="-5400000"/>
                <a:lnTo>
                  <a:pt x="0" y="9635"/>
                </a:lnTo>
                <a:arcTo wR="21600" hR="9635" stAng="10800000" swAng="-123933"/>
                <a:lnTo>
                  <a:pt x="70" y="10412"/>
                </a:lnTo>
                <a:arcTo wR="21600" hR="9635" stAng="-10676067" swAng="527606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dynamics 5.jpg"/>
          <p:cNvPicPr/>
          <p:nvPr/>
        </p:nvPicPr>
        <p:blipFill>
          <a:blip r:embed="rId1"/>
          <a:stretch/>
        </p:blipFill>
        <p:spPr>
          <a:xfrm>
            <a:off x="1684440" y="0"/>
            <a:ext cx="7459560" cy="5334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4876920"/>
            <a:ext cx="25909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ong Dynamic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971800" y="5257440"/>
            <a:ext cx="6324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ye travels from the primary subject to the secondary subject, then back to the primary 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urved Right Arrow 4"/>
          <p:cNvSpPr/>
          <p:nvPr/>
        </p:nvSpPr>
        <p:spPr>
          <a:xfrm rot="18052200">
            <a:off x="3824640" y="2482200"/>
            <a:ext cx="1100160" cy="332424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727920 h 3324240"/>
              <a:gd name="textAreaBottom" fmla="*/ 2459160 h 33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60" stAng="-5400000" swAng="-5400000"/>
                <a:lnTo>
                  <a:pt x="0" y="11248"/>
                </a:lnTo>
                <a:arcTo wR="21600" hR="9460" stAng="10800000" swAng="-3568645"/>
                <a:lnTo>
                  <a:pt x="16200" y="21300"/>
                </a:lnTo>
                <a:lnTo>
                  <a:pt x="21600" y="19813"/>
                </a:lnTo>
                <a:lnTo>
                  <a:pt x="16200" y="17726"/>
                </a:lnTo>
                <a:lnTo>
                  <a:pt x="16200" y="18619"/>
                </a:lnTo>
                <a:arcTo wR="21600" hR="9460" stAng="7231355" swAng="3425803"/>
                <a:lnTo>
                  <a:pt x="97" y="10354"/>
                </a:lnTo>
                <a:arcTo wR="21600" hR="9460" stAng="-10657158" swAng="5257158"/>
                <a:close/>
              </a:path>
              <a:path fill="darkenLess" w="21600" h="21600">
                <a:moveTo>
                  <a:pt x="21600" y="0"/>
                </a:moveTo>
                <a:arcTo wR="21600" hR="9460" stAng="-5400000" swAng="-5400000"/>
                <a:lnTo>
                  <a:pt x="0" y="9460"/>
                </a:lnTo>
                <a:arcTo wR="21600" hR="9460" stAng="10800000" swAng="-142842"/>
                <a:lnTo>
                  <a:pt x="97" y="10354"/>
                </a:lnTo>
                <a:arcTo wR="21600" hR="9460" stAng="-10657158" swAng="5257158"/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urved Right Arrow 5"/>
          <p:cNvSpPr/>
          <p:nvPr/>
        </p:nvSpPr>
        <p:spPr>
          <a:xfrm rot="7006200">
            <a:off x="5729760" y="119520"/>
            <a:ext cx="1100160" cy="332424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727920 h 3324240"/>
              <a:gd name="textAreaBottom" fmla="*/ 2459160 h 33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60" stAng="-5400000" swAng="-5400000"/>
                <a:lnTo>
                  <a:pt x="0" y="11248"/>
                </a:lnTo>
                <a:arcTo wR="21600" hR="9460" stAng="10800000" swAng="-3568645"/>
                <a:lnTo>
                  <a:pt x="16200" y="21300"/>
                </a:lnTo>
                <a:lnTo>
                  <a:pt x="21600" y="19813"/>
                </a:lnTo>
                <a:lnTo>
                  <a:pt x="16200" y="17726"/>
                </a:lnTo>
                <a:lnTo>
                  <a:pt x="16200" y="18619"/>
                </a:lnTo>
                <a:arcTo wR="21600" hR="9460" stAng="7231355" swAng="3425803"/>
                <a:lnTo>
                  <a:pt x="97" y="10354"/>
                </a:lnTo>
                <a:arcTo wR="21600" hR="9460" stAng="-10657158" swAng="5257158"/>
                <a:close/>
              </a:path>
              <a:path fill="darkenLess" w="21600" h="21600">
                <a:moveTo>
                  <a:pt x="21600" y="0"/>
                </a:moveTo>
                <a:arcTo wR="21600" hR="9460" stAng="-5400000" swAng="-5400000"/>
                <a:lnTo>
                  <a:pt x="0" y="9460"/>
                </a:lnTo>
                <a:arcTo wR="21600" hR="9460" stAng="10800000" swAng="-142842"/>
                <a:lnTo>
                  <a:pt x="97" y="10354"/>
                </a:lnTo>
                <a:arcTo wR="21600" hR="9460" stAng="-10657158" swAng="5257158"/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unity.jpg"/>
          <p:cNvPicPr/>
          <p:nvPr/>
        </p:nvPicPr>
        <p:blipFill>
          <a:blip r:embed="rId1"/>
          <a:stretch/>
        </p:blipFill>
        <p:spPr>
          <a:xfrm>
            <a:off x="-19080" y="0"/>
            <a:ext cx="705024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 rot="1766400">
            <a:off x="6268320" y="2822400"/>
            <a:ext cx="291924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or Dynamic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23880" y="4876920"/>
            <a:ext cx="6477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ye gets stuck on one object or the eye is lead out of the photo or the eye does not know what to view as the primary 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133200"/>
            <a:ext cx="289548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ied Line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590920" y="6172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ginary lines that direct the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emphasis.jpg"/>
          <p:cNvPicPr/>
          <p:nvPr/>
        </p:nvPicPr>
        <p:blipFill>
          <a:blip r:embed="rId2"/>
          <a:stretch/>
        </p:blipFill>
        <p:spPr>
          <a:xfrm>
            <a:off x="1523880" y="1447920"/>
            <a:ext cx="7239240" cy="4813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ied lines can help the dynamics of a phot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ontrast 2.jpg"/>
          <p:cNvPicPr/>
          <p:nvPr/>
        </p:nvPicPr>
        <p:blipFill>
          <a:blip r:embed="rId1"/>
          <a:stretch/>
        </p:blipFill>
        <p:spPr>
          <a:xfrm>
            <a:off x="1219320" y="1676520"/>
            <a:ext cx="6629400" cy="4971960"/>
          </a:xfrm>
          <a:prstGeom prst="rect">
            <a:avLst/>
          </a:prstGeom>
          <a:ln w="0">
            <a:noFill/>
          </a:ln>
        </p:spPr>
      </p:pic>
      <p:cxnSp>
        <p:nvCxnSpPr>
          <p:cNvPr id="138" name="Straight Arrow Connector 4"/>
          <p:cNvCxnSpPr/>
          <p:nvPr/>
        </p:nvCxnSpPr>
        <p:spPr>
          <a:xfrm flipH="1">
            <a:off x="3809520" y="3200400"/>
            <a:ext cx="915120" cy="8388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39" name="Straight Arrow Connector 5"/>
          <p:cNvCxnSpPr/>
          <p:nvPr/>
        </p:nvCxnSpPr>
        <p:spPr>
          <a:xfrm flipV="1">
            <a:off x="3580200" y="3123360"/>
            <a:ext cx="762840" cy="7628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</p:spTree>
  </p:cSld>
  <p:transition>
    <p:wedg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e4bd"/>
                </a:solidFill>
                <a:latin typeface="Calibri"/>
              </a:rPr>
              <a:t>Where is the implied line in this phot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dynamics 1.jpg"/>
          <p:cNvPicPr/>
          <p:nvPr/>
        </p:nvPicPr>
        <p:blipFill>
          <a:blip r:embed="rId2"/>
          <a:srcRect l="8003" t="10003" r="8003" b="15331"/>
          <a:stretch/>
        </p:blipFill>
        <p:spPr>
          <a:xfrm>
            <a:off x="838080" y="152388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142" name="Curved Right Arrow 3"/>
          <p:cNvSpPr/>
          <p:nvPr/>
        </p:nvSpPr>
        <p:spPr>
          <a:xfrm rot="6031200">
            <a:off x="3312720" y="228240"/>
            <a:ext cx="2938680" cy="5535720"/>
          </a:xfrm>
          <a:custGeom>
            <a:avLst/>
            <a:gdLst>
              <a:gd name="textAreaLeft" fmla="*/ 393480 w 2938680"/>
              <a:gd name="textAreaRight" fmla="*/ 2545200 w 2938680"/>
              <a:gd name="textAreaTop" fmla="*/ 1108440 h 5535720"/>
              <a:gd name="textAreaBottom" fmla="*/ 4060080 h 553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50" stAng="-5400000" swAng="-5400000"/>
                <a:lnTo>
                  <a:pt x="0" y="11517"/>
                </a:lnTo>
                <a:arcTo wR="21600" hR="8650" stAng="10800000" swAng="-3431284"/>
                <a:lnTo>
                  <a:pt x="16200" y="21325"/>
                </a:lnTo>
                <a:lnTo>
                  <a:pt x="21600" y="18734"/>
                </a:lnTo>
                <a:lnTo>
                  <a:pt x="16200" y="15592"/>
                </a:lnTo>
                <a:lnTo>
                  <a:pt x="16200" y="17025"/>
                </a:lnTo>
                <a:arcTo wR="21600" hR="8650" stAng="7368716" swAng="3200284"/>
                <a:lnTo>
                  <a:pt x="299" y="10084"/>
                </a:lnTo>
                <a:arcTo wR="21600" hR="8650" stAng="-10569001" swAng="5169001"/>
                <a:close/>
              </a:path>
              <a:path fill="darkenLess" w="21600" h="21600">
                <a:moveTo>
                  <a:pt x="21600" y="0"/>
                </a:moveTo>
                <a:arcTo wR="21600" hR="8650" stAng="-5400000" swAng="-5400000"/>
                <a:lnTo>
                  <a:pt x="0" y="8650"/>
                </a:lnTo>
                <a:arcTo wR="21600" hR="8650" stAng="10800000" swAng="-230999"/>
                <a:lnTo>
                  <a:pt x="299" y="10084"/>
                </a:lnTo>
                <a:arcTo wR="21600" hR="8650" stAng="-10569001" swAng="516900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man and guitar.jpg"/>
          <p:cNvPicPr/>
          <p:nvPr/>
        </p:nvPicPr>
        <p:blipFill>
          <a:blip r:embed="rId1"/>
          <a:srcRect l="10141" t="9177" r="10141" b="19884"/>
          <a:stretch/>
        </p:blipFill>
        <p:spPr>
          <a:xfrm>
            <a:off x="-49320" y="0"/>
            <a:ext cx="50961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00240" y="0"/>
            <a:ext cx="4343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f the elements are not arranged successfully within the frame…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876920" y="4571640"/>
            <a:ext cx="39621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Your photograph will not be successfu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66920" y="-360"/>
            <a:ext cx="30481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eighting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486040" y="1142640"/>
            <a:ext cx="3429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happens when you place objects in different zon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harmony 4.jpg"/>
          <p:cNvPicPr/>
          <p:nvPr/>
        </p:nvPicPr>
        <p:blipFill>
          <a:blip r:embed="rId2"/>
          <a:stretch/>
        </p:blipFill>
        <p:spPr>
          <a:xfrm>
            <a:off x="0" y="0"/>
            <a:ext cx="5562720" cy="55627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"/>
          <p:cNvSpPr/>
          <p:nvPr/>
        </p:nvSpPr>
        <p:spPr>
          <a:xfrm>
            <a:off x="53352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s are center weighted.  The photo is static or froz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09720" y="304920"/>
            <a:ext cx="342900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the objects are placed in the top zones of the photograph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5257800" y="5410080"/>
            <a:ext cx="3657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objects seem far awa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balance.jpg"/>
          <p:cNvPicPr/>
          <p:nvPr/>
        </p:nvPicPr>
        <p:blipFill>
          <a:blip r:embed="rId2"/>
          <a:stretch/>
        </p:blipFill>
        <p:spPr>
          <a:xfrm>
            <a:off x="0" y="0"/>
            <a:ext cx="51516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he object is placed far to one sid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752480" y="6019560"/>
            <a:ext cx="5639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sense of mov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emphasis 4.jpg"/>
          <p:cNvPicPr/>
          <p:nvPr/>
        </p:nvPicPr>
        <p:blipFill>
          <a:blip r:embed="rId2"/>
          <a:srcRect l="6566" t="8242" r="6566" b="14663"/>
          <a:stretch/>
        </p:blipFill>
        <p:spPr>
          <a:xfrm>
            <a:off x="914400" y="137160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181120" y="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the objects are placed in the lower zones of the photo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333760" y="4191120"/>
            <a:ext cx="3429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s are well grounded, and possibly overwhel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emphasis 1.jpg"/>
          <p:cNvPicPr/>
          <p:nvPr/>
        </p:nvPicPr>
        <p:blipFill>
          <a:blip r:embed="rId2"/>
          <a:srcRect l="6649" t="5333" r="9088" b="9331"/>
          <a:stretch/>
        </p:blipFill>
        <p:spPr>
          <a:xfrm>
            <a:off x="108000" y="152280"/>
            <a:ext cx="5070600" cy="64008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member, when you are taking photos, you need to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0880" y="14475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t in clo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Fill the frame with your su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y attention to negative spa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Be sure there aren’t any distractions in the backgr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dit your im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Find the right angle that eliminates distractions and includes good composition qual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ch your edg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Make sure no distractions are in the very edges of the fra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ep horizontals horizontal and verticals vertic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 not take diagonal photo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de an environ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Give the viewer some clues about the su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266688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in Clos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balance 4.jpg"/>
          <p:cNvPicPr/>
          <p:nvPr/>
        </p:nvPicPr>
        <p:blipFill>
          <a:blip r:embed="rId2"/>
          <a:stretch/>
        </p:blipFill>
        <p:spPr>
          <a:xfrm>
            <a:off x="2819520" y="0"/>
            <a:ext cx="556236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y attention to negative spa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dynamics 3.jpg"/>
          <p:cNvPicPr/>
          <p:nvPr/>
        </p:nvPicPr>
        <p:blipFill>
          <a:blip r:embed="rId2"/>
          <a:stretch/>
        </p:blipFill>
        <p:spPr>
          <a:xfrm>
            <a:off x="2362320" y="762120"/>
            <a:ext cx="48765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86400" y="274680"/>
            <a:ext cx="32004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it your image (before you take the photo)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contrast 3.jpg"/>
          <p:cNvPicPr/>
          <p:nvPr/>
        </p:nvPicPr>
        <p:blipFill>
          <a:blip r:embed="rId2"/>
          <a:srcRect l="5027" t="5647" r="4409" b="5887"/>
          <a:stretch/>
        </p:blipFill>
        <p:spPr>
          <a:xfrm>
            <a:off x="304920" y="228600"/>
            <a:ext cx="477972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ch your edges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balance 3.jpg"/>
          <p:cNvPicPr/>
          <p:nvPr/>
        </p:nvPicPr>
        <p:blipFill>
          <a:blip r:embed="rId1"/>
          <a:srcRect l="19946" t="10667" r="20228" b="16445"/>
          <a:stretch/>
        </p:blipFill>
        <p:spPr>
          <a:xfrm>
            <a:off x="4627440" y="0"/>
            <a:ext cx="451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eps verticals vertical and horizontals horizont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ontrast 1.jpg"/>
          <p:cNvPicPr/>
          <p:nvPr/>
        </p:nvPicPr>
        <p:blipFill>
          <a:blip r:embed="rId1"/>
          <a:stretch/>
        </p:blipFill>
        <p:spPr>
          <a:xfrm>
            <a:off x="990720" y="1352520"/>
            <a:ext cx="73404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3920" y="-360"/>
            <a:ext cx="441972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ap Sho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556272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asual record of a person, place or ev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pose: to capture a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snapshot 3.jpg"/>
          <p:cNvPicPr/>
          <p:nvPr/>
        </p:nvPicPr>
        <p:blipFill>
          <a:blip r:embed="rId1"/>
          <a:srcRect l="6000" t="12507" r="6000" b="14999"/>
          <a:stretch/>
        </p:blipFill>
        <p:spPr>
          <a:xfrm>
            <a:off x="762120" y="914400"/>
            <a:ext cx="7238880" cy="477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lude an environment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armony 1.jpg"/>
          <p:cNvPicPr/>
          <p:nvPr/>
        </p:nvPicPr>
        <p:blipFill>
          <a:blip r:embed="rId1"/>
          <a:stretch/>
        </p:blipFill>
        <p:spPr>
          <a:xfrm>
            <a:off x="1066680" y="1066680"/>
            <a:ext cx="701064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this a snapsho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FamilySnapshot.jpg"/>
          <p:cNvPicPr/>
          <p:nvPr/>
        </p:nvPicPr>
        <p:blipFill>
          <a:blip r:embed="rId2"/>
          <a:stretch/>
        </p:blipFill>
        <p:spPr>
          <a:xfrm>
            <a:off x="762120" y="1440000"/>
            <a:ext cx="7908840" cy="541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6477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makes this a snapsho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snapshot.jpg"/>
          <p:cNvPicPr/>
          <p:nvPr/>
        </p:nvPicPr>
        <p:blipFill>
          <a:blip r:embed="rId2"/>
          <a:stretch/>
        </p:blipFill>
        <p:spPr>
          <a:xfrm>
            <a:off x="838080" y="838080"/>
            <a:ext cx="7355160" cy="4896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676520" y="565776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ould this picture be improv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snapshot 4.jpg"/>
          <p:cNvPicPr/>
          <p:nvPr/>
        </p:nvPicPr>
        <p:blipFill>
          <a:blip r:embed="rId2"/>
          <a:srcRect l="6000" t="12382" r="6000" b="12382"/>
          <a:stretch/>
        </p:blipFill>
        <p:spPr>
          <a:xfrm>
            <a:off x="685800" y="685800"/>
            <a:ext cx="7823160" cy="53341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emphasis 6.jpg"/>
          <p:cNvPicPr/>
          <p:nvPr/>
        </p:nvPicPr>
        <p:blipFill>
          <a:blip r:embed="rId1"/>
          <a:srcRect l="8003" t="10003" r="8003" b="15331"/>
          <a:stretch/>
        </p:blipFill>
        <p:spPr>
          <a:xfrm>
            <a:off x="1486080" y="0"/>
            <a:ext cx="7657920" cy="5105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81240" y="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grap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51055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artistic interpretation of a person, place or ev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urpose: To tell the viewer something about the subje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dynamics 4.jpg"/>
          <p:cNvPicPr/>
          <p:nvPr/>
        </p:nvPicPr>
        <p:blipFill>
          <a:blip r:embed="rId1"/>
          <a:srcRect l="3997" t="7332" r="6000" b="15331"/>
          <a:stretch/>
        </p:blipFill>
        <p:spPr>
          <a:xfrm>
            <a:off x="609480" y="533520"/>
            <a:ext cx="7851960" cy="5059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s this a photograph and not a snapsh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240" y="54864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hotographer filled the frame with the subject so the viewer can see the city in which the clock exists in the refl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39:20Z</dcterms:created>
  <dc:creator> </dc:creator>
  <dc:description/>
  <dc:language>en-US</dc:language>
  <cp:lastModifiedBy> </cp:lastModifiedBy>
  <dcterms:modified xsi:type="dcterms:W3CDTF">2008-09-08T11:44:08Z</dcterms:modified>
  <cp:revision>42</cp:revision>
  <dc:subject/>
  <dc:title>Photography</dc:title>
</cp:coreProperties>
</file>